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11.jpeg" ContentType="image/jpeg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E17-576A-4E6D-9DEE-801A6E8D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F0E-471E-4DEC-B42C-A00D6187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D07-69C0-4C67-A279-60EE4E6B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1AA-68B5-43C0-BF22-0A82F408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3A7E-33EF-42A2-B08E-8F4A8450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670D-B946-4BA7-84F6-E6DC8664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65A6-98AE-453A-B169-C21AB10C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4963-D99C-4D0F-9D68-BAE1A193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72AA-AF0F-4768-B9E2-037BFF87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A55D-D5DC-47FD-AC16-0409E6C5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14BF-E9EE-4725-B6D4-42A8CB18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C61-6E3D-4136-96F8-E4E401A0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3A2D-4E27-4BD0-A844-3A302E36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C824-4393-4DF2-ADF7-DFB56F88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4B15-89F4-4CE2-B08C-275C258B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4FFE-6507-4D39-BA49-AE4DEA85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3578-5820-48CE-BB93-21BB6B73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385-BE26-4DC5-8DB6-EF5FD657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9A3-BFA5-4879-AD09-0A50B176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A7A-81B0-484C-A982-BEEC896A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659-0CB0-431C-B227-8A10B87C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28D-B25E-4171-A97E-6018B947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736-A99F-4DBA-A507-7B00A03B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11D-D1D5-4B94-9938-5A5372F9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F771-B08D-4E54-BBCE-F8DB93AA7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39E8-96DC-4E5E-94E3-594FD33E1C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одительское собрание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4038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вая оценк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к ней относ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относиться к отметкам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отметку. Ему очень хочется быть в ваших глазах хоро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врать и изворачиваться, чтобы быть в ваших глазах хоро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282745"/>
          <p:cNvPicPr/>
          <p:nvPr/>
        </p:nvPicPr>
        <p:blipFill>
          <a:blip r:embed="rId1"/>
          <a:stretch/>
        </p:blipFill>
        <p:spPr>
          <a:xfrm>
            <a:off x="3780000" y="4869000"/>
            <a:ext cx="15127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. Объясните ему, что важен не только высокий результат. Больше важны знания, которые он сможет приобрести в результате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AG00319_"/>
          <p:cNvPicPr/>
          <p:nvPr/>
        </p:nvPicPr>
        <p:blipFill>
          <a:blip r:embed="rId1"/>
          <a:stretch/>
        </p:blipFill>
        <p:spPr>
          <a:xfrm>
            <a:off x="3851280" y="3141720"/>
            <a:ext cx="468000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ребёнку оценки всл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омнения - идите в школу и  попытайтесь объективно разобраться в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виняйте беспричинно других взрослых и детей в проблемах собств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15960" cy="140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Рисунок16"/>
          <p:cNvPicPr/>
          <p:nvPr/>
        </p:nvPicPr>
        <p:blipFill>
          <a:blip r:embed="rId2"/>
          <a:stretch/>
        </p:blipFill>
        <p:spPr>
          <a:xfrm>
            <a:off x="7238880" y="4114800"/>
            <a:ext cx="92736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своего труда, чтобы ребёнку хотелось вам подра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076204"/>
          <p:cNvPicPr/>
          <p:nvPr/>
        </p:nvPicPr>
        <p:blipFill>
          <a:blip r:embed="rId1"/>
          <a:stretch/>
        </p:blipFill>
        <p:spPr>
          <a:xfrm>
            <a:off x="3048120" y="3886200"/>
            <a:ext cx="5616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Хорошее, как и плохое, запоминается ребёнком надолго и его хочется повторить. Пусть ребёнок получает хорошую отметку ради того, чтобы его отметили. Вскоре это станет привы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134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141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149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163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168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Прямоугольник 46"/>
          <p:cNvSpPr/>
          <p:nvPr/>
        </p:nvSpPr>
        <p:spPr>
          <a:xfrm>
            <a:off x="533520" y="2438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8"/>
          <p:cNvSpPr/>
          <p:nvPr/>
        </p:nvSpPr>
        <p:spPr>
          <a:xfrm>
            <a:off x="5943600" y="23623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самостоятельно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е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йте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индивидуален для каждого ребенка.            Не следует ни торопиться, ни затяг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ч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ша родительская обяза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j0088510"/>
          <p:cNvPicPr/>
          <p:nvPr/>
        </p:nvPicPr>
        <p:blipFill>
          <a:blip r:embed="rId1"/>
          <a:stretch/>
        </p:blipFill>
        <p:spPr>
          <a:xfrm>
            <a:off x="5715000" y="3733920"/>
            <a:ext cx="30052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91120" y="1294920"/>
            <a:ext cx="49528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мбинирован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Admin</cp:lastModifiedBy>
  <dcterms:modified xsi:type="dcterms:W3CDTF">2019-10-01T13:44:53Z</dcterms:modified>
  <cp:revision>57</cp:revision>
  <dc:subject/>
  <dc:title>PowerPoint Template</dc:title>
</cp:coreProperties>
</file>