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DA3-0AE6-40E5-9489-D9BB191D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651-19D7-4EB0-B6DC-0A163E0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DC6-1CA3-414F-9512-6BEF5A83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F32-90A3-4509-8DAC-67648A98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76A9-4D85-4D4F-9380-55FDD966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C73-02C6-418D-B41C-6ED7991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EB77-8B5A-4D19-A293-28DEDF5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F88-F961-4DDE-82D5-7CFDB0C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2EC7-8525-4408-8377-D2B586B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23C7-64C8-4511-B017-A981644B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C55F-847B-4BAD-8A8E-EB44B030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61B-A067-4232-AFB8-55321D1B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F9EF-4478-4AA9-B72A-7D75DE2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E336-8204-4718-8E4E-4CE4FAA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5C17-0D9F-4097-AC06-BA0B0F8B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861A-AE32-46AD-9F76-C9D9CC69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2FA-939E-499F-A253-DD713867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22E-8FB0-4E6A-B46C-0E52B828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86F-F793-4C5F-A24C-27A423CB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E07-442A-4B6B-A2DC-FF96890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C11-EA2B-41ED-8315-A37BCC3F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169-6821-4E74-9C61-555B9BC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9C2-32A8-466B-A2BD-0041863F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734-2BE7-4755-805C-CF12B8D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0054-0949-4F0F-9FF8-2AD6EF6E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51A5-5CF1-4572-8BCB-B2DF3AEB23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4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1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49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3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8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Admin</cp:lastModifiedBy>
  <dcterms:modified xsi:type="dcterms:W3CDTF">2019-10-01T13:44:53Z</dcterms:modified>
  <cp:revision>57</cp:revision>
  <dc:subject/>
  <dc:title>PowerPoint Template</dc:title>
</cp:coreProperties>
</file>