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11.jpeg" ContentType="image/jpeg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278-FF74-4EF1-8BFC-B89EBC2C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957-ACEB-494A-9ABE-F954558D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CF5-79C6-48EF-B8A8-AE6D4482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D24-F595-4F3B-ABDB-0CF5D3E1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654E-F890-4237-B619-FECE5D61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F753-DE9D-423E-9FFE-37A0856A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ED74-7805-4F4F-ADC4-CB65BFB9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95D2-F8DB-4061-9B6A-1123B3B7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98A7-3A9E-40BB-8AF5-2F9C5404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DB2E-937C-4FE4-AE30-4C07368D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84B6-84D9-45D4-BCB7-888013BC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7AE-C6AF-425C-9741-FB3ABA01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DB7F-8F48-46F3-A762-E6823ED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3F7B-D53B-4056-A428-560B2972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846D-D679-4FC1-9F93-F74AD87B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EDF4-3473-4047-8A32-59B2EBFD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2BBB-43D7-401A-8D0C-49A83D93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4E1-0D52-4259-AA3A-A3F4D63A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58A-6702-472D-9815-7304F1C9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7FE-504E-402F-8373-7EF40B37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C89-749E-4692-8BD7-D6B82EAB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36E-5FF3-4F11-A336-25A8DE2B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036-B93D-451B-AAB9-9FB53443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58E-F4DE-4B26-9C46-FF8BDA4C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FB19-1A5F-48E7-8B7E-41EA832C5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CA2B-3F18-4B1C-A5D8-2F43913C3B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одительское собрание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4038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вая оценк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к ней относ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относиться к отметкам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отметку. Ему очень хочется быть в ваших глазах хоро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врать и изворачиваться, чтобы быть в ваших глазах хоро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82745"/>
          <p:cNvPicPr/>
          <p:nvPr/>
        </p:nvPicPr>
        <p:blipFill>
          <a:blip r:embed="rId1"/>
          <a:stretch/>
        </p:blipFill>
        <p:spPr>
          <a:xfrm>
            <a:off x="3780000" y="4869000"/>
            <a:ext cx="15127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. Объясните ему, что важен не только высокий результат. Больше важны знания, которые он сможет приобрести в результате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AG00319_"/>
          <p:cNvPicPr/>
          <p:nvPr/>
        </p:nvPicPr>
        <p:blipFill>
          <a:blip r:embed="rId1"/>
          <a:stretch/>
        </p:blipFill>
        <p:spPr>
          <a:xfrm>
            <a:off x="3851280" y="3141720"/>
            <a:ext cx="46800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ребёнку оценки всл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омнения - идите в школу и  попытайтесь объективно разобраться в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виняйте беспричинно других взрослых и детей в проблемах собств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15960" cy="140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4114800"/>
            <a:ext cx="92736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своего труда, чтобы ребёнку хотелось вам подра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076204"/>
          <p:cNvPicPr/>
          <p:nvPr/>
        </p:nvPicPr>
        <p:blipFill>
          <a:blip r:embed="rId1"/>
          <a:stretch/>
        </p:blipFill>
        <p:spPr>
          <a:xfrm>
            <a:off x="3048120" y="3886200"/>
            <a:ext cx="5616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Хорошее, как и плохое, запоминается ребёнком надолго и его хочется повторить. Пусть ребёнок получает хорошую отметку ради того, чтобы его отметили. Вскоре это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134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141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149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163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168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8"/>
          <p:cNvSpPr/>
          <p:nvPr/>
        </p:nvSpPr>
        <p:spPr>
          <a:xfrm>
            <a:off x="5943600" y="23623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самостоятельно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индивидуален для каждого ребенка.            Не следует ни торопиться, ни затяг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ч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ша родительская обяз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j0088510"/>
          <p:cNvPicPr/>
          <p:nvPr/>
        </p:nvPicPr>
        <p:blipFill>
          <a:blip r:embed="rId1"/>
          <a:stretch/>
        </p:blipFill>
        <p:spPr>
          <a:xfrm>
            <a:off x="5715000" y="3733920"/>
            <a:ext cx="3005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9528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мбинирован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Admin</cp:lastModifiedBy>
  <dcterms:modified xsi:type="dcterms:W3CDTF">2019-10-01T13:44:53Z</dcterms:modified>
  <cp:revision>57</cp:revision>
  <dc:subject/>
  <dc:title>PowerPoint Template</dc:title>
</cp:coreProperties>
</file>