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11.jpeg" ContentType="image/jpeg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340-AB07-4B2A-8201-2E53D16F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B9B-34B0-4C76-85A6-1210917B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4F9-3E68-4CC6-8F3B-887BC315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7E4-59F2-48A0-947F-EC310B08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714E-81BF-4A3E-AFD0-D02B350D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0CE3-571B-45D3-9AB6-B32A67F9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4E77-5CA9-479E-922B-E5287BC4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9B35-4779-42E9-9858-E0F5FA4A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C60C-7AFC-47A3-BB58-81EA2AEA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CBD0-F0CC-43F9-AC53-F52DF442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406F-390B-4738-82F4-C2C2392E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9E9-8FCD-46CF-B84D-6DE843BD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C928-BDFC-4211-847E-A345E1F1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DE48-301C-4480-BAD6-BC33F79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5DD9-98C8-4530-AE65-7574961F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2DAD-1CD3-4E6F-8ED5-6E4564C8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4693-CD68-4833-8B24-A9549558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E7B-7473-404B-9C7A-32E1D97C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954-EAEA-482D-A412-940C1A58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542-8B65-46AD-A184-A61C55DF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21A-3E13-4D3B-BAC9-0D992F65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B49-1FA8-44B3-BAAE-3E441B5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D15-7D50-464D-A4E3-DC2CFEBE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958-2427-41F6-8ED7-DF5580F7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94F7-ED65-4197-9C2D-40E2FE7D2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7F09-6CFE-40CD-A8B7-3C9F876B76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одительское собрание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4038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вая оценк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к ней относ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относиться к отметкам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отметку. Ему очень хочется быть в ваших глазах хоро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врать и изворачиваться, чтобы быть в ваших глазах хоро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282745"/>
          <p:cNvPicPr/>
          <p:nvPr/>
        </p:nvPicPr>
        <p:blipFill>
          <a:blip r:embed="rId1"/>
          <a:stretch/>
        </p:blipFill>
        <p:spPr>
          <a:xfrm>
            <a:off x="3780000" y="4869000"/>
            <a:ext cx="15127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. Объясните ему, что важен не только высокий результат. Больше важны знания, которые он сможет приобрести в результате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AG00319_"/>
          <p:cNvPicPr/>
          <p:nvPr/>
        </p:nvPicPr>
        <p:blipFill>
          <a:blip r:embed="rId1"/>
          <a:stretch/>
        </p:blipFill>
        <p:spPr>
          <a:xfrm>
            <a:off x="3851280" y="3141720"/>
            <a:ext cx="468000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ребёнку оценки всл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омнения - идите в школу и  попытайтесь объективно разобраться в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виняйте беспричинно других взрослых и детей в проблемах собств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15960" cy="140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Рисунок16"/>
          <p:cNvPicPr/>
          <p:nvPr/>
        </p:nvPicPr>
        <p:blipFill>
          <a:blip r:embed="rId2"/>
          <a:stretch/>
        </p:blipFill>
        <p:spPr>
          <a:xfrm>
            <a:off x="7238880" y="4114800"/>
            <a:ext cx="92736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своего труда, чтобы ребёнку хотелось вам подра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076204"/>
          <p:cNvPicPr/>
          <p:nvPr/>
        </p:nvPicPr>
        <p:blipFill>
          <a:blip r:embed="rId1"/>
          <a:stretch/>
        </p:blipFill>
        <p:spPr>
          <a:xfrm>
            <a:off x="3048120" y="3886200"/>
            <a:ext cx="5616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Хорошее, как и плохое, запоминается ребёнком надолго и его хочется повторить. Пусть ребёнок получает хорошую отметку ради того, чтобы его отметили. Вскоре это станет привы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134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141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149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163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168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Прямоугольник 46"/>
          <p:cNvSpPr/>
          <p:nvPr/>
        </p:nvSpPr>
        <p:spPr>
          <a:xfrm>
            <a:off x="533520" y="2438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8"/>
          <p:cNvSpPr/>
          <p:nvPr/>
        </p:nvSpPr>
        <p:spPr>
          <a:xfrm>
            <a:off x="5943600" y="23623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самостоятельно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е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йте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индивидуален для каждого ребенка.            Не следует ни торопиться, ни затяг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ч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ша родительская обяза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j0088510"/>
          <p:cNvPicPr/>
          <p:nvPr/>
        </p:nvPicPr>
        <p:blipFill>
          <a:blip r:embed="rId1"/>
          <a:stretch/>
        </p:blipFill>
        <p:spPr>
          <a:xfrm>
            <a:off x="5715000" y="3733920"/>
            <a:ext cx="30052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91120" y="1294920"/>
            <a:ext cx="49528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мбинирован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Admin</cp:lastModifiedBy>
  <dcterms:modified xsi:type="dcterms:W3CDTF">2019-10-01T13:44:53Z</dcterms:modified>
  <cp:revision>57</cp:revision>
  <dc:subject/>
  <dc:title>PowerPoint Template</dc:title>
</cp:coreProperties>
</file>